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76A-7D90-4A78-8545-C51AAFC0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716-A2FC-4D1A-8964-ED1652EC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677-5B7D-4AA5-AAC6-4BB4707E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C59-A974-4FEA-B4B3-40A6CBDC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315B-2427-4DD0-B534-701A5E8E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F9E2-F531-41B4-A9F0-E03A6484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7D9-DEF2-4667-81D1-14DB08D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A7E6-08CA-4F27-A5ED-CDD209DE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034-52C8-414D-BAC5-40DD8C4E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EBC-A0BB-41BB-8D90-07ECDA4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F4E-2936-4554-8984-A7F7C21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0D8-D2F9-488A-A984-A6C0871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2F6F-F42E-49D1-8215-A664CDC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96BD-32F1-4A57-8D86-E56B789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311B-9866-436B-96C1-A640AD6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45B-A3C4-42F9-9398-A7D1DD48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22B-7D32-4CF3-88DF-A1FCA7F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3281-CA68-471A-9234-649603ED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23D0-D884-4F5F-9C1A-71B3A983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62BC-6D45-4056-81E9-97FAA11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0949-071F-4A52-868F-291A9019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886A-F358-4BAA-A104-9966C2C2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5AE-8154-44EA-AB3A-6567E3C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27B0-EC57-4ADA-B45C-9D9779F2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0137-B0FC-4E90-B173-72130F4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02B0-DBD2-4222-BCF5-BACFE28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D80B-E205-41D0-AB45-ADAA852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BBCB-AE6F-4F6E-9E11-7ADB8C01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7874-DABE-4839-91BF-0D01B7D8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355B-EB11-40BC-A803-798AFE18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BF3B-4B93-4B36-B665-E0B9B7B8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C8B1-2DF7-4E83-87A3-8177236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6E83-0588-4BD3-BB87-37833F9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AFB-25D7-4A6E-BAFF-395041D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9A92-71EC-404C-AFC5-9968208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1D87-508E-48C0-87DA-EEB632F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25ED-19C3-49C8-A318-50B8729B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A1D5-3145-437D-85CC-C5B1E85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4B0E-552F-4B5E-9E82-C6E097F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75F2-FB3F-42F6-AC52-A818599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6EC2-7AAC-493B-8B19-7D295E4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D59F-27E8-48C0-BBDA-EF497268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C840-0927-4795-9048-890F68C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3D67B-36B5-457D-B1D8-3B345596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0A0-3E2A-4D39-9216-CF52A003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4B9A6-6F3F-4F25-AA8D-8A7CD84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ABCD-56FE-40E6-89BD-FF8F633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0E02-A6F8-491E-AACC-4F0F9DC9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F697-A6F9-4340-BA94-0622EA5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7998-7287-4ADF-A7FB-92C7E25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94B7-C529-48DD-B677-D2E49B6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2D4F-3C44-4839-AD38-A57012C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A07F-EC53-4DAE-8E08-3BFE6F2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9EC6-1722-4C91-9879-B0F23BC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A5F9-6881-4BBC-9985-440C3C8D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B51-7E1D-45CE-8293-4B1E6C4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F39AB-2D68-4C3E-8317-A84D106A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ACCF-7105-48D5-92C7-636C6CBE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BB2D0-F843-4B11-9037-4AA4BAC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BA4F-735A-4F33-A40C-376C7B3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9AAE-46F1-4D4E-8BBA-DED403A5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A0CA-536F-4632-9FE6-BAB930E9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370CC-33DC-4723-98C2-8DD0592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E0EF-17DD-4658-BD1F-0873AD9F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C613-EE8D-45F9-B929-B634CC6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BF78-52FB-4BBF-8706-1E5FAD1A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B6C-8D1E-4EEE-89BB-7933009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BC67-50D0-447A-9958-0C287F94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A1F8-7F9A-4A80-9BCC-B567693D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A175-4FB7-4B7A-A2D3-D6FDCF4E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7A70F-C24C-4CB1-84FA-484DF6EB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ADFB-ECC8-4A01-A5B6-B6179799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A2F8A-0AAD-4A44-AF07-7C503451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8E0C-3B79-4D47-9F32-D1EEF68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E8740-E634-4F01-B175-478CCA87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D955-6EBF-4F44-AEAC-80802459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754B-E678-4FF1-BD2E-06757F6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D9F-635B-4141-BB15-BA06CAA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1DA5-C82A-47DA-BF03-8E8B173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A91E-69ED-4852-9433-A599291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1D7A-5FC1-415E-8AB2-6120E39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8E68-4762-471B-9356-3A0621D2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172F2-88DD-423D-A5A8-333BFAC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81788-6160-473F-A94C-806A9CE2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6A224-0D48-4365-9DFA-2437ABD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CCCE8-CB1B-4FD7-B5C7-7AB2684A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75E3-9671-4569-998D-272EE41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2FD30-79F0-4995-8EC4-D8F36AE1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064-5BC4-4232-9B01-865FB64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FAAB-D087-4746-8D2C-33B115D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174B-EE8A-4C74-9739-0954E61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D40F-DC8B-4889-9EF2-31329D6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E0057-D1EE-44C0-95B9-54F5763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9B7C0-84B9-4DE6-9A1A-C65BFA4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4B2D3-F118-4AD8-BC56-475A8155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4A00B-7FB9-4208-BC12-00A2FBD8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32D-58B8-48AE-B959-4A5BB2153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BB57-087F-4749-B5FA-87D9F9F6583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0B95-082C-4B6D-AEC8-6FFF7BCA5B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917C-9AD0-4012-B0EE-30031AE54E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CF5-1A19-415F-A779-51C6405B9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24D-ED59-4F28-B007-B5ADC0297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5EBC-2156-4991-861A-5EA56CF567C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854-8FA8-4001-9D9C-D22A380255E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589960" cy="295596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3" descr="ru18.jpg"/>
          <p:cNvPicPr/>
          <p:nvPr/>
        </p:nvPicPr>
        <p:blipFill>
          <a:blip r:embed="rId2"/>
          <a:stretch/>
        </p:blipFill>
        <p:spPr>
          <a:xfrm>
            <a:off x="285840" y="214200"/>
            <a:ext cx="8858160" cy="63579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1928880" y="642960"/>
            <a:ext cx="63579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9d1d3"/>
                </a:solidFill>
                <a:latin typeface="Franklin Gothic Medium"/>
              </a:rPr>
              <a:t>ЭКСПРЕССИОНИЗМ</a:t>
            </a:r>
            <a:r>
              <a:rPr b="1" lang="en-US" sz="4400" spc="-1" strike="noStrike">
                <a:solidFill>
                  <a:srgbClr val="f9d1d3"/>
                </a:solidFill>
                <a:latin typeface="Franklin Gothic Medium"/>
              </a:rPr>
              <a:t> </a:t>
            </a: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в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               </a:t>
            </a:r>
            <a:r>
              <a:rPr b="1" lang="ru-RU" sz="5400" spc="-1" strike="noStrike">
                <a:solidFill>
                  <a:srgbClr val="f9d1d3"/>
                </a:solidFill>
                <a:latin typeface="Franklin Gothic Medium"/>
              </a:rPr>
              <a:t>живописи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6643800" y="4714920"/>
            <a:ext cx="221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Выполнил ученик 10 А класса Русской гимназии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Шулепов А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Рисунок4.jpg"/>
          <p:cNvPicPr/>
          <p:nvPr/>
        </p:nvPicPr>
        <p:blipFill>
          <a:blip r:embed="rId2"/>
          <a:srcRect l="0" t="19906" r="0" b="19906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Рисунок5.jpg"/>
          <p:cNvPicPr/>
          <p:nvPr/>
        </p:nvPicPr>
        <p:blipFill>
          <a:blip r:embed="rId2"/>
          <a:srcRect l="0" t="22728" r="0" b="22728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595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Рисунок6.jpg"/>
          <p:cNvPicPr/>
          <p:nvPr/>
        </p:nvPicPr>
        <p:blipFill>
          <a:blip r:embed="rId2"/>
          <a:srcRect l="0" t="4922" r="0" b="4922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Рисунок7.jpg"/>
          <p:cNvPicPr/>
          <p:nvPr/>
        </p:nvPicPr>
        <p:blipFill>
          <a:blip r:embed="rId1"/>
          <a:stretch/>
        </p:blipFill>
        <p:spPr>
          <a:xfrm>
            <a:off x="285840" y="142920"/>
            <a:ext cx="2314440" cy="3548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Рисунок8.jpg"/>
          <p:cNvPicPr/>
          <p:nvPr/>
        </p:nvPicPr>
        <p:blipFill>
          <a:blip r:embed="rId2"/>
          <a:stretch/>
        </p:blipFill>
        <p:spPr>
          <a:xfrm>
            <a:off x="3214800" y="214200"/>
            <a:ext cx="2479680" cy="34768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Рисунок9.jpg"/>
          <p:cNvPicPr/>
          <p:nvPr/>
        </p:nvPicPr>
        <p:blipFill>
          <a:blip r:embed="rId3"/>
          <a:stretch/>
        </p:blipFill>
        <p:spPr>
          <a:xfrm>
            <a:off x="6072120" y="214200"/>
            <a:ext cx="2779920" cy="3468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1071720" y="4286160"/>
            <a:ext cx="714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d1d3"/>
                </a:solidFill>
                <a:latin typeface="Arial"/>
                <a:ea typeface="Arial"/>
              </a:rPr>
              <a:t>Эти произведения принадлежат 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7a8f"/>
                </a:solidFill>
                <a:latin typeface="Arial"/>
                <a:ea typeface="Arial"/>
              </a:rPr>
              <a:t>ЭКСПРЕССИОНИЗМУ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682560" y="133200"/>
            <a:ext cx="8120160" cy="1159200"/>
          </a:xfrm>
          <a:prstGeom prst="rect">
            <a:avLst/>
          </a:prstGeom>
          <a:ln w="0">
            <a:noFill/>
          </a:ln>
        </p:spPr>
      </p:pic>
      <p:pic>
        <p:nvPicPr>
          <p:cNvPr id="350" name="Подзаголовок 2" descr=""/>
          <p:cNvPicPr/>
          <p:nvPr/>
        </p:nvPicPr>
        <p:blipFill>
          <a:blip r:embed="rId2"/>
          <a:stretch/>
        </p:blipFill>
        <p:spPr>
          <a:xfrm>
            <a:off x="1274760" y="1274760"/>
            <a:ext cx="6735600" cy="4522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682560" y="-237960"/>
            <a:ext cx="7785000" cy="1742760"/>
          </a:xfrm>
          <a:prstGeom prst="rect">
            <a:avLst/>
          </a:prstGeom>
          <a:ln w="0">
            <a:noFill/>
          </a:ln>
        </p:spPr>
      </p:pic>
      <p:pic>
        <p:nvPicPr>
          <p:cNvPr id="352" name="Подзаголовок 2" descr=""/>
          <p:cNvPicPr/>
          <p:nvPr/>
        </p:nvPicPr>
        <p:blipFill>
          <a:blip r:embed="rId2"/>
          <a:stretch/>
        </p:blipFill>
        <p:spPr>
          <a:xfrm>
            <a:off x="1212840" y="1011240"/>
            <a:ext cx="6656400" cy="4633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42560" cy="1920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Авангард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Барокк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Классиц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Сюрреализ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Экспрессионизм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d1d3"/>
                </a:solidFill>
                <a:latin typeface="Arial"/>
                <a:ea typeface="Arial"/>
              </a:rPr>
              <a:t>и т.д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8236080" cy="1871640"/>
          </a:xfrm>
          <a:prstGeom prst="rect">
            <a:avLst/>
          </a:prstGeom>
          <a:ln w="0">
            <a:noFill/>
          </a:ln>
        </p:spPr>
      </p:pic>
      <p:pic>
        <p:nvPicPr>
          <p:cNvPr id="356" name="Подзаголовок 2" descr=""/>
          <p:cNvPicPr/>
          <p:nvPr/>
        </p:nvPicPr>
        <p:blipFill>
          <a:blip r:embed="rId2"/>
          <a:stretch/>
        </p:blipFill>
        <p:spPr>
          <a:xfrm>
            <a:off x="1335240" y="1719360"/>
            <a:ext cx="6649920" cy="4809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-79200" y="-103320"/>
            <a:ext cx="8600760" cy="1919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Мировоззренческой основой экспрессионизма стал индивидуалистический протест против уродливого мира, все большее отчуждение человека от мира, чувства бесприютности, крушения, распада тех начал, на которых, казалось, так прочно покоилась европейская культу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Экспрессионистам свойственны тяготение к мистике и пессимиз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9d1d3"/>
                </a:solidFill>
                <a:latin typeface="Arial"/>
                <a:ea typeface="Arial"/>
              </a:rPr>
              <a:t>Художники воспринимали творчество как способ выражения эмоц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Содержимое 4" descr="Рисунок1.jpg"/>
          <p:cNvPicPr/>
          <p:nvPr/>
        </p:nvPicPr>
        <p:blipFill>
          <a:blip r:embed="rId2"/>
          <a:stretch/>
        </p:blipFill>
        <p:spPr>
          <a:xfrm>
            <a:off x="4879800" y="1722600"/>
            <a:ext cx="35751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1528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Отказ от иллюзорного простран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Стремление к плоскостной трактовке предметов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Деформация предметов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Любовь к резким красочным диссонанса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Особый колорит, заключающий в себе апокалипсический драматизм</a:t>
            </a:r>
            <a:r>
              <a:rPr b="1" i="1" lang="ru-RU" sz="3200" spc="-1" strike="noStrike">
                <a:solidFill>
                  <a:srgbClr val="f9d1d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401320" cy="2230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d1d3"/>
                </a:solidFill>
                <a:latin typeface="Arial"/>
                <a:ea typeface="Arial"/>
              </a:rPr>
              <a:t>Основатели – студенты архитектурного факультета города Дрездена: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a1f28"/>
                </a:solidFill>
                <a:latin typeface="Arial"/>
                <a:ea typeface="Arial"/>
              </a:rPr>
              <a:t>Эрнст Людвиг Кихнер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Фриц Блейл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Эрих Хеккель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Arial"/>
                <a:ea typeface="Arial"/>
              </a:rPr>
              <a:t>Карл Шмидт-Ротлуфф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9d1d3"/>
                </a:solidFill>
                <a:latin typeface="Arial"/>
                <a:ea typeface="Arial"/>
              </a:rPr>
              <a:t>Выступили с идеей большей абсолютизации и максимального заострения цветовых и пространственных ощущений реальности. Предметный мир теперь воплощали предельно обобщенные и почти зашифрованные предметы-«знаки», окружающие человека. Полностью потеряли свое значение свет и светотень, так как их функцию перенял цвет, ставший духовным компонентом изображения. Остальные элементы композиции, такие, как линия контура и цветовое пятно, приобрели полную самостоятельность и стали столь лаконичны, что тяготели к перерождению друг в друга. Основными цветами не только у художников «Моста», но и вообще у всех экспрессионистов были насыщенные желтый, синий и красный, равномерно распределенные по всей картине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50004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9d1d3"/>
                </a:solidFill>
                <a:latin typeface="Century Gothic"/>
              </a:rPr>
              <a:t>                 </a:t>
            </a:r>
            <a:r>
              <a:rPr b="0" lang="ru-RU" sz="1200" spc="-1" strike="noStrike">
                <a:solidFill>
                  <a:srgbClr val="f9d1d3"/>
                </a:solidFill>
                <a:latin typeface="Arial"/>
                <a:ea typeface="Arial"/>
              </a:rPr>
              <a:t>В</a:t>
            </a: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1909 году В.Кандинским и А.Явленским было основано “Новое художественное объединение” в противовес отказавшемуся принимать произведения “авангардистских” художников “Мюнхенскому Сецессиону”. Вскоре В.Кандинский и Франц Марк основали альмонах “Синий всадник”. В одном из интервью 1930 года Кандинский рассказал навязчивому журналисту, почему возникло такое название: оба основателя любили синий цвет, кроме того, Марк любил лошадей, а Кандинский всадников.</a:t>
            </a:r>
            <a:br>
              <a:rPr sz="1200"/>
            </a:b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В конце 1911 года редакция альманаха открыла в одной из галерей выставку картин В. Кандинского, Ф.Марка, А. Макке и др., которая положила начало объединению “Синий всадник”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9d1d3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f9d1d3"/>
                </a:solidFill>
                <a:latin typeface="Arial"/>
                <a:ea typeface="Arial"/>
              </a:rPr>
              <a:t>Для “Синего всадника”, в противоположность объединению “Мост”, было характерно тяготение к абстрактному искусству, к отказу от передачи видимого окружающего мира. Их творчество было призвано выражать чувства, раскрывая трансцендентную сущность веще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Содержимое 4" descr="Рисунок3.jpg"/>
          <p:cNvPicPr/>
          <p:nvPr/>
        </p:nvPicPr>
        <p:blipFill>
          <a:blip r:embed="rId2"/>
          <a:stretch/>
        </p:blipFill>
        <p:spPr>
          <a:xfrm>
            <a:off x="4799160" y="1722600"/>
            <a:ext cx="373680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7T13:07:03Z</dcterms:modified>
  <cp:revision>19</cp:revision>
  <dc:subject/>
  <dc:title>Что такое искусство?</dc:title>
</cp:coreProperties>
</file>